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1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4A9-BCD6-4579-BF2A-4136D135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815-11E5-4FC9-8215-F576355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98A-DCF1-4873-9A8F-5D7BE1C5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72D-E6A5-4444-B9D7-4E509FA1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C6B-CDFD-497D-A6EC-152BB6F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9FE-0042-42A5-83B7-B23BB759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C25-3F01-499A-B0B6-0669D166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F84-9376-4A63-B956-4A1D20B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26D-761B-42E0-9EC3-1CAE103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3B2-6873-4EFD-B313-3AC8557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22A-7059-4984-AAFB-A271535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C1F-FB0F-4276-B8CA-02BAC43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BC1-DD25-400F-8E98-628A84CF48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776800">
            <a:off x="3965760" y="2251440"/>
            <a:ext cx="539928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"/>
              </a:rPr>
              <a:t>让人物鲜活起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080" y="-457200"/>
            <a:ext cx="281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533520"/>
            <a:ext cx="2362320" cy="642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试牛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962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字数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50——20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左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981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666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运用所学的方法描写出所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5520" y="3352680"/>
            <a:ext cx="7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察的人物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724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请以 “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老师一声令下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为开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48680" y="152388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 示 要 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21932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朗读本组的最佳作品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结合所学的人物描写的方法讲清推荐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1360" y="1828800"/>
            <a:ext cx="152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堂 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695840"/>
            <a:ext cx="85716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1295280"/>
            <a:ext cx="44197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语言、心理进行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429000"/>
            <a:ext cx="44197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8120" y="15998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学习目标</a:t>
            </a:r>
            <a:r>
              <a:rPr b="1" lang="zh-CN" sz="6000" spc="-1" strike="noStrike">
                <a:solidFill>
                  <a:srgbClr val="660066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35268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分析范文，理解观察、描写人物的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通过观察，能写出描写人物的语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533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王明走上讲台，右手拿起板擦，高高扬起右臂，竟然没有碰到一个字。王明啊，王明，看来今天在劫难逃了。王明稍稍迟疑了一会儿，身体微微下蹲，用尽全身的力气，猛地向上一跳，同时右手顺势向右一挥，一行字就这样在他的手中消失了。看来效果不错啊！他又重复着刚才的动作，蹦来蹦去，右手随着跳跃的频率挥来挥去，像是一个钟摆，又像是一个灵活的小猴子在表演。大家被他逗得哄堂大笑，有的同学竟然笑得直不起腰来。王明扭过头，眼睛一瞥，吐了吐舌头，脸上洋溢着得意与自豪，分明是在向大家炫耀。又是一阵连续的跳跃，此时，王明气喘吁吁地抬起头，看着最上沿的那些字迹，实在是够不着了。他无可奈何的站在黑板前，不知所措。唉！我不禁同情起他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429000"/>
            <a:ext cx="5790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"/>
              </a:rPr>
              <a:t>语言、心理进行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王明走上讲台，右手拿起板擦，高高扬起右臂，竟然没有碰到一个字。王明啊，王明，看来今天在劫难逃了。王明稍稍迟疑了一会儿，身体微微下蹲，用尽全身的力气，猛地向上一跳，同时右手顺势向右一挥，一行字就这样在他的手中消失了。看来效果不错啊！他又重复着刚才的动作，蹦来蹦去，右手随着跳跃的频率挥来挥去，像是一个钟摆，又像是一个灵活的小猴子在表演。大家被他逗得哄堂大笑，有的同学竟然笑得直不起腰来。王明扭过头，眼睛一瞥，吐了吐舌头，脸上洋溢着得意与自豪，分明是在向大家炫耀。又是一阵连续的跳跃，此时，王明气喘吁吁地抬起头，看着最上沿的那些字迹，实在是够不着了。他无可奈何的站在黑板前，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43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看来效果不错啊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3276360" cy="533160"/>
          </a:xfrm>
          <a:prstGeom prst="wedgeRoundRectCallout">
            <a:avLst>
              <a:gd name="adj1" fmla="val 50240"/>
              <a:gd name="adj2" fmla="val 107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刚开始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80880"/>
            <a:ext cx="3276720" cy="533520"/>
          </a:xfrm>
          <a:prstGeom prst="wedgeRoundRectCallout">
            <a:avLst>
              <a:gd name="adj1" fmla="val -100870"/>
              <a:gd name="adj2" fmla="val 26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再次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943600"/>
            <a:ext cx="3276720" cy="533520"/>
          </a:xfrm>
          <a:prstGeom prst="wedgeRoundRectCallout">
            <a:avLst>
              <a:gd name="adj1" fmla="val 73013"/>
              <a:gd name="adj2" fmla="val -531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943600"/>
            <a:ext cx="3276720" cy="609480"/>
          </a:xfrm>
          <a:prstGeom prst="wedgeRoundRectCallout">
            <a:avLst>
              <a:gd name="adj1" fmla="val -1115"/>
              <a:gd name="adj2" fmla="val -195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又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8600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8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048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876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看来效果不错啊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3276360" cy="533160"/>
          </a:xfrm>
          <a:prstGeom prst="wedgeRoundRectCallout">
            <a:avLst>
              <a:gd name="adj1" fmla="val 50240"/>
              <a:gd name="adj2" fmla="val 107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刚开始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80880"/>
            <a:ext cx="3276720" cy="533520"/>
          </a:xfrm>
          <a:prstGeom prst="wedgeRoundRectCallout">
            <a:avLst>
              <a:gd name="adj1" fmla="val -100870"/>
              <a:gd name="adj2" fmla="val 26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再次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943600"/>
            <a:ext cx="3276720" cy="533520"/>
          </a:xfrm>
          <a:prstGeom prst="wedgeRoundRectCallout">
            <a:avLst>
              <a:gd name="adj1" fmla="val 73013"/>
              <a:gd name="adj2" fmla="val -531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943600"/>
            <a:ext cx="3276720" cy="609480"/>
          </a:xfrm>
          <a:prstGeom prst="wedgeRoundRectCallout">
            <a:avLst>
              <a:gd name="adj1" fmla="val -1115"/>
              <a:gd name="adj2" fmla="val -195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又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看来效果不错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514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352680"/>
            <a:ext cx="6476760" cy="137376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步：注意抓住活动过程中的三个阶段：一开始……后来……最后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二步：在每个阶段中抓住人物的三个或三个以上的身体部位进行叙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三步：在每个时段都写出自己的心理感受或对人物心理的揣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724280"/>
            <a:ext cx="69343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971800"/>
            <a:ext cx="685800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语言、心理进行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762120"/>
            <a:ext cx="3809880" cy="642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观察人物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00200"/>
            <a:ext cx="6782040" cy="350604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物的神情和动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刚开始的时候……僵持的时候……最后的时候……三个阶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个阶段注意观察人物的脸色、眼睛、鼻子、嘴巴、牙齿、身体、手、手背、腿、膝盖等身体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听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听听人物的语言和声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想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揣测掰腕子的同学的心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感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注意自己的心理感受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53280" y="4191120"/>
            <a:ext cx="762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8:57:02Z</dcterms:created>
  <dc:creator>谭书娟</dc:creator>
  <dc:description/>
  <dc:language>en-US</dc:language>
  <cp:lastModifiedBy>微软用户</cp:lastModifiedBy>
  <dcterms:modified xsi:type="dcterms:W3CDTF">2012-12-10T13:37:3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