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052-6ED4-4586-BC87-F6599BE8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D0B-35FA-4F48-8D97-81A078C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AF4-F037-49A6-9AC8-2F93C6DF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951-D165-40C7-AC9C-F4B958AD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B0B-C47D-4D66-9DE2-398C1E0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C76-2763-4EEB-83E4-4F50A024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007-A36D-4A4E-B9BD-42F01131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502-5C43-4AA9-BE73-AB13FA95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6AF-5B82-4CEA-B14D-027755C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C95-C4E2-43C7-BE9F-18F3208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E99-5030-47A4-BECD-EC4769A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DD9-EF9C-46EE-B19F-CD10E64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F87-A487-4D7A-B271-E33F001D1C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7848720" cy="2257560"/>
          </a:xfrm>
          <a:prstGeom prst="rect">
            <a:avLst/>
          </a:prstGeom>
          <a:solidFill>
            <a:srgbClr val="caf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12c0b"/>
                </a:solidFill>
                <a:latin typeface="Times New Roman"/>
                <a:ea typeface="华文行楷"/>
              </a:rPr>
              <a:t> </a:t>
            </a:r>
            <a:r>
              <a:rPr b="0" lang="zh-CN" sz="14200" spc="-1" strike="noStrike">
                <a:solidFill>
                  <a:srgbClr val="f12c0b"/>
                </a:solidFill>
                <a:latin typeface="Times New Roman"/>
                <a:ea typeface="华文新魏"/>
              </a:rPr>
              <a:t>人物分析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五、明确身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有的放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下列语句的表达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乙己是站着喝酒而穿长衫的唯一的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819520"/>
            <a:ext cx="79246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）交代了人物的身份和社会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）揭示孔乙己生活贫穷而又以读书人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居的穷酸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800600"/>
            <a:ext cx="7696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一季暖冬》，文中的“我”是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份？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从情节入手，完整把握人物性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solidFill>
            <a:srgbClr val="dbfdd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小镇女人》回答问题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是怎样在情节 的发展中揭示人物性格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8954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六年前，在街头摆摊卖杂物，穿旗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盘头发—勤劳、从容优雅、乐观自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几年后，买中巴跑运输—有追求、 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想、善于经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546880"/>
            <a:ext cx="8001000" cy="1323000"/>
          </a:xfrm>
          <a:prstGeom prst="rect">
            <a:avLst/>
          </a:prstGeom>
          <a:solidFill>
            <a:srgbClr val="dbf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半年后，出车祸，依然摆地摊，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迎顾客—乐观、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塑造人物形象的目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社会现实，反映社会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《没有一种冰不被阳光融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505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达作者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人物性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常见题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中的人物有何  性格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133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直接回答人物的性格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塑造了怎样的人物形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352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的性格特点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身份（或“的形象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962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出文中画线句子运用的刻画人物方法及其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572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指出刻画人物方法，对应回答其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1814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的人物给你带来哪些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867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性格品质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作者的思想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隶书"/>
              </a:rPr>
              <a:t>小节</a:t>
            </a: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宋体"/>
              </a:rPr>
              <a:t>：</a:t>
            </a:r>
            <a:r>
              <a:rPr b="1" lang="zh-CN" sz="4800" spc="-1" strike="noStrike">
                <a:solidFill>
                  <a:srgbClr val="d7120d"/>
                </a:solidFill>
                <a:latin typeface="Times New Roman"/>
                <a:ea typeface="华文隶书"/>
              </a:rPr>
              <a:t>分析人物的一般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3352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分析刻画人物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结合环境—烘托渲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分析次要人物的烘托陪衬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了解背景—确定基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明确身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的放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从情节入手，完整把握人物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8862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学习分析人物的一般方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理解各种表现手法的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理解塑造人物形象的目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掌握答题的一般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763120" cy="144792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中宋"/>
              </a:rPr>
              <a:t>分析人物的一般方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分析刻画人物的方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阅读《没有一种冰不被阳光融化》回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文中是怎样刻画父亲的形象的？表现了父亲怎样的性格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886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）语言、外貌、动作行为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词语、细节、角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334120"/>
            <a:ext cx="8534160" cy="6426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）表现了父亲朴实、乐观、善于教育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二、结合环境—烘托渲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阅读《一季暖冬》回答下列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选文中的环境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别说说这些环境描写有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048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、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、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一段：写出阴沉压抑的气氛，烘托出人物沉重的心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5257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三段：写出环境的凄凉，烘托出人物孤独无助的处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15000"/>
            <a:ext cx="8534160" cy="10159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八段：写</a:t>
            </a:r>
            <a:r>
              <a:rPr b="1" lang="zh-CN" sz="2400" spc="-1" strike="noStrike">
                <a:solidFill>
                  <a:srgbClr val="f12c0b"/>
                </a:solidFill>
                <a:latin typeface="Times New Roman"/>
              </a:rPr>
              <a:t>雪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悄无声息地飘落 ，衬托“我”因找到一份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的工作而喜悦的心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分析次要人物的烘托陪衬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没有一种冰不被阳光融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中作者着力刻画的人物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描写我落榜的失落和最后的成功的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悦对于刻画父亲的形象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8686800" cy="18788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选文中作者着力刻画的人物是父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）是为了表现父亲对我的教育的成功，从侧面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托出父亲乐观、自信、朴实、善于教育孩子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阅读《小镇女人》回答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中是如何交代小镇上其他人的？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写这些人有何用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35268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从议论女人的衣着，效仿女人的穿戴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面等， 通过语言和动作描写。从侧面烘托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小镇女人乐观自信的性格特点、优雅从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生活态度，以及对小镇的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四、了解背景—确定基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50292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《雪地上的路》思考 下列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概括选文第一段的内容。体会该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段在全文中的作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495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写下雪的环境和儿子身有残疾事实。表现出母亲对儿子的牵挂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爱。奠定了全文的感情基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阅读《没有一种冰不被阳光融化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选文第一段交代了什么内容？有什么作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429000"/>
            <a:ext cx="82296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交代了乡村升学的背景，与我后来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上大学的结局相对比，表现出父亲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于自信教育对我的重要性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2:49:38Z</dcterms:created>
  <dc:creator/>
  <dc:description/>
  <dc:language>en-US</dc:language>
  <cp:lastModifiedBy>ABIT</cp:lastModifiedBy>
  <dcterms:modified xsi:type="dcterms:W3CDTF">2012-06-09T02:49:54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