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725-26EC-4788-B286-01CF2E51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557-2390-49BD-94D4-E14D31A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945-9D4C-417A-8441-B47F4C6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E55-39F5-40BF-BB77-891200BD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0C3B-E0DA-4520-A465-94A35F76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52A0-C817-45F9-BEDA-2A5E2A87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C8BD-8FBD-47D4-BD6D-69560FB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46F8-6189-43BE-AB6D-255D10D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AE2E-1FA8-44FC-8C44-E8823C3C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A903-4D55-4EE3-9E27-94C3899E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788-2C6A-4E33-AD4C-4172F90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B54-E1CA-4D14-AF76-2D0CF1F6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8BD5-ACF2-4382-AD3F-0B07D3DF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526D-BAAC-47F2-B978-6E5DA303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E094-5284-4ECE-9C93-5D4BC38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6BDC-F1BC-4190-80FF-A3739129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1AAE-27BC-4EA4-AEB4-AD12A96F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B07-5B01-4078-819E-A8D53A37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E10-1423-435A-BF93-FEB4A614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041-FE51-4B69-81F7-DF09EAA7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BF9-7E12-4E80-B70D-9692C5A0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9EE-AA20-458D-BCBF-2703146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411-5D03-4B6B-93B1-5C04630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A06-AE4D-4EB9-B4CE-6AF44493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B654-51E3-4050-A908-FA22779EE9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6CCA-1E8D-4FFF-B619-E832079C316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325080" cy="688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31000">
            <a:off x="755280" y="2541240"/>
            <a:ext cx="74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ff00"/>
                </a:solidFill>
                <a:latin typeface="Tahoma"/>
              </a:rPr>
              <a:t>细节，让文章更精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797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96800">
            <a:off x="971280" y="362124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——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人物动作的细节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9800" y="525456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执教：人和二中    李干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51280" y="115920"/>
            <a:ext cx="1563480" cy="60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9280" y="5589720"/>
            <a:ext cx="738360" cy="1049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885080" y="0"/>
            <a:ext cx="882720" cy="950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26920" y="333360"/>
            <a:ext cx="57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04640"/>
            <a:ext cx="4824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游子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孟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慈母手中线，游子身上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临行密密缝，意恐迟迟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谁言寸草心，报得三春晖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435640" y="260280"/>
            <a:ext cx="3456000" cy="2521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920" y="2637000"/>
            <a:ext cx="8280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这是一首亲切真淳地吟颂母爱的诗歌，诗中最能具体形象地表现慈母之爱的动作细节是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根据语境在语段空缺处填上贴切的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母亲把线头在舌尖上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又用指尖轻轻一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她年纪大了，那细小的针眼仿佛也成了一道难闯的关。她一手拿着衣服，一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着针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着眼睛，凑到油灯前，就着油灯的亮光，将针线穿来引去。那密密缝织在一起的是母亲对游子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3500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密密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小试牛刀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51280" y="115920"/>
            <a:ext cx="1563480" cy="60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9280" y="5589720"/>
            <a:ext cx="738360" cy="1049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885080" y="0"/>
            <a:ext cx="882720" cy="950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836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运用人物动作细节描写的方法来描写：起晚快要迟到的情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50—100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字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6400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27640" y="3933720"/>
            <a:ext cx="458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5373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349360"/>
            <a:ext cx="889308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睁开眼一看，还有十五分钟就上课了，而我平时从家里回到学校的时间至少也要十分钟啊。天哪！要迟到了。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3068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86064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3860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292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437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72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4005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5157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4724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0560" y="537372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2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778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小试牛刀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549360"/>
            <a:ext cx="4753080" cy="4292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3213000"/>
            <a:ext cx="87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413000"/>
            <a:ext cx="806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天哪！要迟到了。我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开被子，从床上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下来，慌慌张张地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拽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过衣服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套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上鞋子，几步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蹿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进卫生间，急急忙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抽出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牙刷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涂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上牙膏，在嘴里胡乱地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戳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了几下，然后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扯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下毛巾，在脸上抹了两把，飞快地钻出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屋子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476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练习答案示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51280" y="115920"/>
            <a:ext cx="1563480" cy="60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9280" y="5589720"/>
            <a:ext cx="738360" cy="1049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885080" y="0"/>
            <a:ext cx="882720" cy="950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26920" y="333360"/>
            <a:ext cx="57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7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3357720"/>
            <a:ext cx="84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8280" y="-720"/>
            <a:ext cx="2741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620640"/>
            <a:ext cx="8569440" cy="72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要求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在横线上写上这个身影在忙什么，要体现人物动作的细节描写，并融入自己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两处各不少于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清晨，我睁开惺忪的眼睛从房间走出来，一个忙碌的身影把我怔住了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傍晚，我骑着自行车，载着一天的收获，高高兴兴回到家，推开门，这个忙碌的身影又出现了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413856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5002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3573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8936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93372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4076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149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55785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661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566100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900000" y="595008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602136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6237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755640" y="1773360"/>
            <a:ext cx="7993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感谢您的支持和指导</a:t>
            </a: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newsflash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26028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640" y="-720"/>
            <a:ext cx="283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76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交流写作的甘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34136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你怕写作文吗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852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ahoma"/>
              </a:rPr>
              <a:t>作文是重头戏，半壁江山</a:t>
            </a:r>
            <a:r>
              <a:rPr b="1" lang="zh-CN" sz="40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4221000"/>
            <a:ext cx="77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方法：细心观察、感悟生活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多读书、多积累；勤写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189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佳作之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98100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佳作总在多写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060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佳作总在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多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后，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细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中有快乐。珍惜所有的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感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每一次提高在练习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佳作总在多写后 ，请相信会成功 ，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多读积累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缺一不可，成功一直会在你的左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1128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6480" y="1484280"/>
            <a:ext cx="2009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981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明确人物动作细节描写 的概念、方法和技巧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234936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运用人物动作 细节描写的方法，刻画人物个性，突出文章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076640"/>
            <a:ext cx="51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养成细致观察、感悟生活、多读书、多积累和常修改作文的好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219640" y="1268280"/>
            <a:ext cx="3635280" cy="4942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赏一赏《背影》中“望父买橘”的细节描写片段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4869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76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我看见他</a:t>
            </a:r>
            <a:r>
              <a:rPr b="1" lang="zh-CN" sz="2800" spc="-1" strike="noStrike">
                <a:solidFill>
                  <a:srgbClr val="ff6699"/>
                </a:solidFill>
                <a:latin typeface="Tahoma"/>
              </a:rPr>
              <a:t>戴着黑布小帽，穿着黑布大马褂，深青布棉袍，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蹒跚地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走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到铁道边，慢慢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探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身下去，尚不大难。可是他穿过铁道，要爬上那边月台，就不容易了。他用两手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攀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着上面，两脚再向上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缩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；他微胖的身子向左微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倾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，显出努力的样子，这时我看见他的背影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的泪很快地流下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了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441680"/>
            <a:ext cx="72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57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段中的描写方法有：在正确的括号内打“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外貌描写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)    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动作描写（ 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节描写（ 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正面描写（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侧面描写（    ）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环境描写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面描写（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态描写（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心理活动描写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段中的外貌与动作两个平淡质朴的细节描写，让我们看到了一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</a:rPr>
              <a:t>家道艰难、年老多病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的老父亲对儿子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ahoma"/>
              </a:rPr>
              <a:t>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的爱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429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668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1224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66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真挚而又深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404640"/>
            <a:ext cx="4968720" cy="426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54936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333360"/>
            <a:ext cx="83534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什么叫做</a:t>
            </a: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细节描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和人物的</a:t>
            </a: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动作的细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描写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72428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9620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2276640"/>
            <a:ext cx="21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特殊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270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细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35772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321300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准确、细致、生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521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013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准确、细致、生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5013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人物富有特征性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445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的动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4000" y="1557360"/>
            <a:ext cx="8496000" cy="2297880"/>
            <a:chOff x="324000" y="1557360"/>
            <a:chExt cx="8496000" cy="2297880"/>
          </a:xfrm>
        </p:grpSpPr>
        <p:sp>
          <p:nvSpPr>
            <p:cNvPr id="152" name=""/>
            <p:cNvSpPr/>
            <p:nvPr/>
          </p:nvSpPr>
          <p:spPr>
            <a:xfrm>
              <a:off x="324000" y="1557360"/>
              <a:ext cx="835164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zh-CN" sz="3200" spc="-1" strike="noStrike">
                  <a:solidFill>
                    <a:srgbClr val="0066ff"/>
                  </a:solidFill>
                  <a:latin typeface="Tahoma"/>
                </a:rPr>
                <a:t>细节描写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在写作中，把对表现人物和情节有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的 </a:t>
              </a:r>
              <a:r>
                <a:rPr b="0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语言、动作、表情、物件、景色等环节进行 </a:t>
              </a: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的描写，使读者“如见其人”“如睹其物”“如临其境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0000" y="2852640"/>
              <a:ext cx="1800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5280" y="4508640"/>
            <a:ext cx="8748720" cy="2043720"/>
            <a:chOff x="395280" y="4508640"/>
            <a:chExt cx="8748720" cy="2043720"/>
          </a:xfrm>
        </p:grpSpPr>
        <p:sp>
          <p:nvSpPr>
            <p:cNvPr id="155" name=""/>
            <p:cNvSpPr/>
            <p:nvPr/>
          </p:nvSpPr>
          <p:spPr>
            <a:xfrm>
              <a:off x="395280" y="4508640"/>
              <a:ext cx="8748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Tahoma"/>
                </a:rPr>
                <a:t>人物动作的细节描写</a:t>
              </a:r>
              <a:r>
                <a:rPr b="0" lang="zh-CN" sz="3200" spc="-1" strike="noStrike">
                  <a:solidFill>
                    <a:srgbClr val="0066ff"/>
                  </a:solidFill>
                  <a:latin typeface="Tahoma"/>
                </a:rPr>
                <a:t> 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即 </a:t>
              </a: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地描写 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                              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以表现人物的性格、身体状况、身份、地位、心理、习惯、情感等等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0360" y="5516640"/>
              <a:ext cx="2808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72360" y="2205000"/>
            <a:ext cx="720720" cy="432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0"/>
            <a:ext cx="88930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4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实在不大佩服她。最讨厌的是常喜欢切切察察，向人们低声絮说些什么事，还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第二个手指，在空中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上下摇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或者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点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手或自己的鼻尖。我的家里一有些小风波，我总疑心和这“切切察察”有些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72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ahoma"/>
              </a:rPr>
              <a:t>走进动作细节描写的百花园 ，感受其魅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981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爸气极了，一把把我从床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来，我的眼泪就流出来了。爸左看右看，结果从桌上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鸡毛掸子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倒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藤鞭子在空中一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就发出咻咻的声音，我挨打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爸爸把我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头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打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角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上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打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下，外面的雨声混合着我的哭声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93092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65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133720"/>
            <a:ext cx="83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66ff"/>
                </a:solidFill>
                <a:latin typeface="Tahoma"/>
              </a:rPr>
              <a:t>突出阿长喜欢说长道短，搬弄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性格</a:t>
            </a: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6093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老王最后一次来我家时，身体状况已差到极致。</a:t>
            </a: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63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458136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表现爸爸对我的严格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5157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一天，我在家听到打门，开门看见老王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直僵僵地镶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门框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0280"/>
            <a:ext cx="4753080" cy="429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9280" y="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比一比——哪一项才是人物动作的细节描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549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豹子飞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）世界男子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10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米跨栏比赛开始了，预备——砰！刘翔开始狂奔，一步，两步，三步，第一个栏轻松过了……</a:t>
            </a:r>
            <a:r>
              <a:rPr b="0" lang="zh-CN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世界男子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跨栏比赛开始了，刘翔那豹子般的眼神死盯着终点。预备——砰！刘翔像平原上疯狂的豹子，开始狂奔，一步，两步，三步，右腿向上抬到最高点，啪！用力下压，左脚用上全部的力量向下蹬地，右脚稳健地落在地上，第一个栏轻松过了……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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0280"/>
            <a:ext cx="4753080" cy="4292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5280" y="549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圈出第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段描写刘翔跨栏的动词，画出动词的修饰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从中悟出人物动作细节描写的哪些方   法？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2130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选择典型的动作细节，展现人物的个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细化动作细节，突出中心思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用词准确生动，修辞贴切新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3:39:27Z</dcterms:created>
  <dc:creator>微软用户</dc:creator>
  <dc:description/>
  <dc:language>en-US</dc:language>
  <cp:lastModifiedBy>微软用户</cp:lastModifiedBy>
  <dcterms:modified xsi:type="dcterms:W3CDTF">2009-11-16T13:40:19Z</dcterms:modified>
  <cp:revision>72</cp:revision>
  <dc:subject/>
  <dc:title>PowerPoint 演示文稿</dc:title>
</cp:coreProperties>
</file>